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DE7-3F4F-429B-9EF2-B50EF278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4F12-9771-455D-A618-1EB74F65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19C-88A7-4200-9F39-83985693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37B-26BA-4F8C-BAEF-86858CEA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E7A-E106-486B-85D8-65DC3F78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F2A-970B-4EE5-A390-2558275D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836-11ED-4CD4-8D95-25F90807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C55-5A17-4B3D-B626-28D42403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43A-A794-4ABB-B1D7-536FF4DB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7AA-6E36-4EEB-86CE-9C2797D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AC6-7FB1-4162-B9B3-DFD6681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E87-047B-46FB-B688-DF629C5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E45-3B41-4249-AEE1-46DA18CC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1B8-7B9D-41BE-9AB8-A317E0D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5A99-955B-4952-BA50-DDA72D1DF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wada-ama.org/" TargetMode="External"/><Relationship Id="rId2" Type="http://schemas.openxmlformats.org/officeDocument/2006/relationships/hyperlink" Target="http://www.adas.org.rs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38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Допинг контро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96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09680" y="1447920"/>
            <a:ext cx="45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33720" y="19810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ровођење допинг контр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о узорак узима се урин или к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е или више стерилни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а затворених у пластичну к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а није претходно отварана нити оштећ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пходно је да спортис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 број с комплета (кутије) и бочиц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ста наводи у формулару све лекове и суплементе које је узимао 7 дана пре допинг контр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ста наводи  у формулару све примедбе и недоумице у вези са процеду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р не садржи име спортисте већ само број компле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егистрована тест гру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бољи спортисти, које одређују савези и Антидопинг агенција Републике Срб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и који се налазе у регистрованој тест групи дужни су током целе године да свакодневно обезбеђују податке о локацији на којој ће тог дана боравити 60 минута. На тој адреси и у том времену допинг контролор може да их пронађе и спроведе поступак допинг контроле. Уколико спортиста три пута у току 12 месеци не буде на адреси и у време које је унео,такав поступак се сматра повредом антидопинг правила и спортиста ће бити кажњен забраном бављења спортом у одређеном временском трајању.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9528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Спортисти и допин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рија Шарапова – мелдонијум (Милдронат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одине суспензије (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јего Марадона –кокаин (1991) 15месеци суспензије –ефедрин (1994)  9месеци сусп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дре Агаси – метамфет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Ђузеп Гвардиола – нандролон, 4 месеца сусп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нс Армстронг – еритропое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нолд Шварценегер – метан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Downloads\sp-sarapova.jpg"/>
          <p:cNvPicPr/>
          <p:nvPr/>
        </p:nvPicPr>
        <p:blipFill>
          <a:blip r:embed="rId1"/>
          <a:stretch/>
        </p:blipFill>
        <p:spPr>
          <a:xfrm>
            <a:off x="6083280" y="-55440"/>
            <a:ext cx="2914560" cy="348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Downloads\Copa-America-871.jpg"/>
          <p:cNvPicPr/>
          <p:nvPr/>
        </p:nvPicPr>
        <p:blipFill>
          <a:blip r:embed="rId2"/>
          <a:stretch/>
        </p:blipFill>
        <p:spPr>
          <a:xfrm>
            <a:off x="6010200" y="2230560"/>
            <a:ext cx="2914560" cy="3395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Downloads\11armstrong2-superJumbo.jpg"/>
          <p:cNvPicPr/>
          <p:nvPr/>
        </p:nvPicPr>
        <p:blipFill>
          <a:blip r:embed="rId3"/>
          <a:stretch/>
        </p:blipFill>
        <p:spPr>
          <a:xfrm>
            <a:off x="6010200" y="4516560"/>
            <a:ext cx="2914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ишар Га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каин (2009) – 2 месеца сусп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мас Хикс – стрихнин (19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2017-ој години 13 српских спортиста пало на допинг тес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wada-ama.or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das.org.r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пинг представља коришћење забрањених супстанци или метода у циљу побољшања спортских перформан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op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ме алкохолног п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ви допин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ст у историји борбе против допинга у спорту урађен је на Олимпијски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ама у Мексику 1968. годин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:\Downloads\Logo_Doping.jpg"/>
          <p:cNvPicPr/>
          <p:nvPr/>
        </p:nvPicPr>
        <p:blipFill>
          <a:blip r:embed="rId1"/>
          <a:stretch/>
        </p:blipFill>
        <p:spPr>
          <a:xfrm>
            <a:off x="6477120" y="441972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вa листa забрањених супстанц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Међународни олимпијски комитет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моторич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анс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мпатикомиметички ам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анси централног нервн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котички аналгетиц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99. године Светск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нтидопинг агенција (WADA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51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ири члана Међународног олимпијског комит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ири члана Асоцијације национал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лимпијских ко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 члана Асоцијације интернационалних федерација летњих Олимпијских иг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члан Спортакор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члан Асоцијација интернационалних федерација зимских олимпијских игар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ири из редова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из Међународног паралимијског ко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ли чланови долазе из редова влада свих држава с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8 чланова)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D:\Downloads\1001589_medjunarodni-olimpijski-komitet-mok-sportisti-antidoping_ls-s.jpg"/>
          <p:cNvPicPr/>
          <p:nvPr/>
        </p:nvPicPr>
        <p:blipFill>
          <a:blip r:embed="rId1"/>
          <a:stretch/>
        </p:blipFill>
        <p:spPr>
          <a:xfrm>
            <a:off x="6248520" y="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85560" indent="-385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ви период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кови чија ефикасност је максимална ако се употребљава непосредно пре или чак током такмичења(стимуланси, наркотици и кока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5560" indent="-38556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уги период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пстанце које захтевају континуирану употребу током дужег временског периода да би били ефикасни (анаболички стероид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5560" indent="-38556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ећи период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пстанце које повећавају спортску способност, а припадају класи пептида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кортико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тврти период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ришћење генског допинг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тидопинг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уство забрањене супстанце у телесном узорку спортис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ишћење или покушај коришћења допинг сре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бијање или избегавање допинг контрол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метање или покушај ометања допинг контро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озвољено поседовање допинг средста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влашћена продаја или дистрибуција допинг средста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ње или покушај давања допинг средста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учесниш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инг контрола укључуј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ање тест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ор спортиста за тестирање и утврђивање регистроване тест групе спорти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упљање и руковање узорц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бораторијску анали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ђење резулта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обравање изузећа за терапеутску употре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леђивање информација у вези с доступношћу за тестирање изван 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тресе и жалб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инг конт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такми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ван такми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ављ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најављ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 допинг контроле на територији Републике Србије спровод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тидопинг агенција Републике Србиј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Избор спортисте за допинг контрол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случајног одаби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у постигнутих спортских резулта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првопласирана спортиста и још један спортис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и који оборе или изједначе национални, европски или светски рекорд на такмичењима спортиста појединац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или три спортиста из сваке екипе, насумичним извлачењем (лоз систем) или циљаним одабиром на колективним (тимским) спортским такмичењим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чно одређени спортиста – ако постоји сумња да је допингован, или према процени допинг контрол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1:01:17Z</dcterms:created>
  <dc:creator>Aleksandra-pc</dc:creator>
  <dc:description/>
  <dc:language>en-US</dc:language>
  <cp:lastModifiedBy>Marko</cp:lastModifiedBy>
  <dcterms:modified xsi:type="dcterms:W3CDTF">2018-11-28T19:53:12Z</dcterms:modified>
  <cp:revision>79</cp:revision>
  <dc:subject/>
  <dc:title>ПРЕВЕНЦИЈА СПОРТСКИХ ПОВРЕДА</dc:title>
</cp:coreProperties>
</file>